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83CE-B860-4548-AFD0-542017046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C3DB-FE8B-447B-8E6D-FAF8BDE1B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F7FC-EDA7-4600-94EF-7FDE4F36B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F41E-2F43-4A31-84BC-530F970AA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9B60-8427-4304-ACBC-4CA66B17B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7B7D-677B-43DB-A25A-5A59AE55D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B6D0-7DF5-432F-A19D-ECC8FF2D6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E394-F93B-4EA7-96CB-F1D85B28F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4D69-5D92-48AC-8D7D-6965F39BF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97C6-D7E9-4049-9865-27B4C5B70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BDDF-7A02-4930-8ECD-7B1345E5D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9679-F346-472D-843B-82BC978DB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D5FEF-E71B-4393-8C91-EAA00705713E}" type="slidenum">
              <a:rPr b="0" lang="es-MX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alibri"/>
              </a:rPr>
              <a:t>Earthquake In A LED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898989"/>
                </a:solidFill>
                <a:latin typeface="Calibri"/>
              </a:rPr>
              <a:t>Turkey; 199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What Happened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entred around Izmit in Northwest Turkey, the earthquake occurred on Tuesday 17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August 1999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t affected an area over a radius of 80km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Primary Eff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included a death toll of approximately 5,500, with another 30,000 injured and 250,000 made homeless.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Over 100,000 buildings collapsed.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Infrastructure damage included a 1km stretch of elevated road, numerous railway bridges, and 120 of the city's 150 quays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Of 1200 people rescued on the day of the quake, only 300 survived because of the totally inadequate hospital facilities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Secondary Eff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luded outbreaks of cholera and typhoid, due to the polluted water supply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ople made homeless by the quake had no escape from the intense heat, dust and stench of rotting bodie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few days after the quake there was no water, electricity or sewage systems work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Secondary Eff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threat of disease was so great that rescue workers had to wear protective gloves and masks, and the cities Gocuk, Yalova and Izmit had large areas quarantin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took the Government in Ankara 48 hours to organise emergency troops to go to the area. Locals were totally unprepared for the disaster, despite it being a common earthquake are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6T14:03:57Z</dcterms:created>
  <dc:creator>Dell_02</dc:creator>
  <dc:description/>
  <dc:language>en-US</dc:language>
  <cp:lastModifiedBy>Dell_02</cp:lastModifiedBy>
  <dcterms:modified xsi:type="dcterms:W3CDTF">2011-01-26T14:09:29Z</dcterms:modified>
  <cp:revision>1</cp:revision>
  <dc:subject/>
  <dc:title>Earthquake In A LEDC</dc:title>
</cp:coreProperties>
</file>